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1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8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D5B-8F4F-40DF-9A9A-6950F2B8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89B6-3447-44D0-AE14-0C927D19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481-25BB-4EBC-82F7-D6BA115D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5396-3903-4B06-ABEC-17105D7E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7B17-6F56-4B48-8E4F-E83E2D2C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B3EC-9E7F-4301-A65F-DF6609A1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14C6-5645-4A9D-9EF4-025891F3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D58E-A640-462E-8E97-21D8CA1D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F319-CF81-49A7-ADEA-284CD24D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6BF5-5835-4C52-9862-CA10C19B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CD6A-4233-4DD2-8E86-8083BD5F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19D-BD91-46D6-9262-26B6D0B1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D3E8-EF8B-4ECC-BA47-5A059947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E05E-9EED-49F4-98F6-32E3D91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C4D2-DF9F-403A-BEC4-2E631669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7744-3520-47DA-B7B9-119E02D3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ABF8-D2FA-43CF-90B7-441998BE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C836-2591-438E-B1AC-493F5C17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77E4F-9372-4762-BAAA-DA24554B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29051-FA41-4399-A5F0-9A1EF81E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FED9-D8EA-4CB1-935A-9F1FB144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D12CC-2F17-4544-959A-467CD86D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949-3F6B-4BBC-AD41-470FD32B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5532D-C7A5-4BC4-9323-EF945AB1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A2AC-0CC8-4C79-A845-87311B14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31AE8-1BC6-43CE-A4BD-5D940F8B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163E-A0F8-4E5E-B6A0-64E47C5B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6FAF-D7FE-4C5D-8263-3F728810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FF43-0816-41CA-BD8B-F6E0BB42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0DB32-0EEF-4833-A153-CE6FCF6D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592-CB45-482B-AEDE-441BEEA6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7CC-F956-4596-BEF1-32E32098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D995-3906-4F2F-B186-42CC51C8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542-55BE-4862-A2F9-40D9ED7D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A01-D04A-4EF0-B113-46B9ECF7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70D-7610-4831-99F1-472E8F8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C35-0D6D-4EC9-BD14-00A28BD50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e4e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BB13-6084-4D1D-B473-5F5D08F919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46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545454"/>
                </a:gs>
                <a:gs pos="100000">
                  <a:srgbClr val="6464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9F52-1334-4F96-B45D-CF8A536200E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28.xml"/><Relationship Id="rId9" Type="http://schemas.openxmlformats.org/officeDocument/2006/relationships/slide" Target="slide30.xml"/><Relationship Id="rId10" Type="http://schemas.openxmlformats.org/officeDocument/2006/relationships/slide" Target="slide31.xm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7920000" cy="936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00720" y="1268280"/>
            <a:ext cx="3960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1853 - 1856гг.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8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2.0)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8000" y="4653000"/>
            <a:ext cx="845964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ные действия на начальном этапе войны про-ходили на море. В ноябре 1853 г. эскадра капитана Г. И. Бутакова, состоящая из пароходофрегатов разгромила турецкий флот. Это было 1-е в истории сражение с участием паровых су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3800" y="1828800"/>
            <a:ext cx="27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-ый 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раходофрег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59280" y="833400"/>
            <a:ext cx="5833800" cy="3432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611280" y="442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Arial"/>
              </a:rPr>
              <a:t>Синопское сраже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79280" y="1052640"/>
            <a:ext cx="8785440" cy="4830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076720" y="3933720"/>
            <a:ext cx="576360" cy="4809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549360"/>
          <a:ext cx="9144000" cy="64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48478"/>
                          </a:solidFill>
                          <a:latin typeface="Arial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48478"/>
                          </a:solidFill>
                          <a:latin typeface="Arial"/>
                        </a:rPr>
                        <a:t>Тур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ующи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48478"/>
                          </a:solidFill>
                          <a:latin typeface="Arial"/>
                        </a:rPr>
                        <a:t>Нахим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48478"/>
                          </a:solidFill>
                          <a:latin typeface="Arial"/>
                        </a:rPr>
                        <a:t>Осман-п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ы сторон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 линкоров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 фрегат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 парохода всего 720 пуше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 фрегатов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 корветов</a:t>
                      </a:r>
                      <a:br>
                        <a:rPr sz="2800"/>
                      </a:b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6 кораб.пушек и 44 на берег. батаре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р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 убитых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 раненных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 оруд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 фрегатов;  4 корвет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.3’000 убит. и раненых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пленных, в том числе адмирал Осман-па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20000">
    <p:cover dir="r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йвазовский И.К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Синоп. Ночь после боя 18 ноября 1853 г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54364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32967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7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355640" y="765000"/>
            <a:ext cx="44960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 неожиданно для Никола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Запад решил вмешаться в войну. Англия рассчитывала получить Египет и Крит без помощи русских, Наполео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нуждался в «маленькой победоносной войне» для укрепления своего авторитета в стране, а Австрия и Пруссия опасались усиления российского влияния на Балканах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11960" y="5013360"/>
            <a:ext cx="231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икатура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олеон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Еду в Кр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еду в Кр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657600" cy="400212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250920" y="4428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onotype Corsiva"/>
              </a:rPr>
              <a:t>Вступление в войну Англии и Фран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76720" y="692280"/>
            <a:ext cx="4824360" cy="2962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3716280"/>
            <a:ext cx="9433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глийский премьер Пальмерстон, хотел охватить Россию боевыми действиями со всех сторон. Англичане высадили десанты под Одессой, на Аландские о-ва, на Кольский п-ов, на Соловецкие о-ва и Архангельск и под      Петропавловском–Камчатском. Но все они были отб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сентябре 1854 г. англо-французский корпус высадился севернее Севастополя у Евпа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4680" y="1557360"/>
            <a:ext cx="19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вастоп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м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4428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Monotype Corsiva"/>
              </a:rPr>
              <a:t>Вступление в войну Англии и Фран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4920" y="476280"/>
            <a:ext cx="9109080" cy="568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356000" y="1268280"/>
            <a:ext cx="216000" cy="216000"/>
          </a:xfrm>
          <a:prstGeom prst="ellipse">
            <a:avLst/>
          </a:prstGeom>
          <a:solidFill>
            <a:srgbClr val="fbdf53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27640" y="1557360"/>
            <a:ext cx="215640" cy="216000"/>
          </a:xfrm>
          <a:prstGeom prst="ellipse">
            <a:avLst/>
          </a:prstGeom>
          <a:solidFill>
            <a:srgbClr val="fbdf53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4000" y="4061880"/>
            <a:ext cx="8743680" cy="25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 сентября 1854г. на р. Альма состоялось   сраж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пев неудачу, русский командующ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Меньшиков отвел армию в центр Крыма и оставил Севастополь на произвол судьб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1960" y="177336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жение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. Аль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844720" y="857160"/>
            <a:ext cx="5112000" cy="2932200"/>
          </a:xfrm>
          <a:prstGeom prst="rect">
            <a:avLst/>
          </a:prstGeom>
          <a:ln w="6048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250920" y="4428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борона Севастопо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8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8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00"/>
                </a:solidFill>
                <a:latin typeface="Monotype Corsiva"/>
              </a:rPr>
              <a:t>Героическая оборона Севастопол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октябрь 1854г – август 1855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349 д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ктор Гюго сравнил осаду Севастополя с осадой Трои. Историк Камилл Руссе, так разъясняет метафору Гюго: “Все это также происходило на уголке земли, на границе между Азией и Европой, где великие империи встретились... Десять лет перед Троей, десять месяцев перед Севастополем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0920" y="157680"/>
            <a:ext cx="52210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Monotype Corsiva"/>
              </a:rPr>
              <a:t>Крымская войн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(1853-1856 гг.) является одним из переломных моментов в истории международных отношений. Крымская война являлась в определенном смысле вооруженным разрешением исторического противостояния России и Европы. Возможно, никогда русско-европейские противоречия не обнаруживались столь очеви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 rot="463800">
            <a:off x="5508360" y="620640"/>
            <a:ext cx="3289320" cy="2237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11640" y="3057480"/>
            <a:ext cx="453708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Крымской войне нашли преломление наиболее актуальные проблемы внешнеполитической стратегии России, не утратившие своего значения и в настоящее время. С другой стороны, она обнаружила характерные внутренние противоречия развития в самой России. Опыт изучения Крымской войны имеет большой потенциал для выработки национальной стратегической доктрины и определения дипломатическ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 rot="21286200">
            <a:off x="178920" y="3716280"/>
            <a:ext cx="3967200" cy="233532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680000" y="1268280"/>
            <a:ext cx="4464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рона Севастопол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должалась 349 дней    сентябрь 1854 г. – август 185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59911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мятник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евастопольской бух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8360" y="765000"/>
            <a:ext cx="3611520" cy="525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250920" y="44280"/>
            <a:ext cx="871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Оборона Севастопол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3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5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1743120" cy="244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516720" y="2060640"/>
            <a:ext cx="2442960" cy="3311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5977080" y="5805360"/>
            <a:ext cx="31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nard MT Condensed"/>
              </a:rPr>
              <a:t>В.А. Корни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2637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nard MT Condensed"/>
              </a:rPr>
              <a:t>В.И.Исто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0" y="4724280"/>
            <a:ext cx="280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nard MT Condensed"/>
              </a:rPr>
              <a:t>П.С. Нахи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03640" y="115920"/>
            <a:ext cx="3600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Русск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32360" y="836640"/>
            <a:ext cx="39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полковод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rcRect l="0" t="0" r="4038" b="0"/>
          <a:stretch/>
        </p:blipFill>
        <p:spPr>
          <a:xfrm>
            <a:off x="468360" y="3573360"/>
            <a:ext cx="2190600" cy="302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2770560" y="5791320"/>
            <a:ext cx="346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отлеб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дуард Иван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5"/>
          <a:srcRect l="6941" t="0" r="0" b="0"/>
          <a:stretch/>
        </p:blipFill>
        <p:spPr>
          <a:xfrm>
            <a:off x="3492360" y="1773360"/>
            <a:ext cx="2360880" cy="280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5977080" y="5805360"/>
            <a:ext cx="31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nard MT Condensed"/>
              </a:rPr>
              <a:t>В.А. Корни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Monotype Corsiva"/>
              </a:rPr>
              <a:t>Герои обороны Севастопол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203640" y="1557000"/>
            <a:ext cx="5796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тлебе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дуар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ванович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1818-1884) - граф, инженер-генерал (1869), военный инженер-фортификатор, герой обороны Севастополя 1854-1855 И русско-турецкой войны 1877-1878. Один из четырех (наряду с П. С. Нахимовым, В. А. Корниловым и В. И. Истоминым) главных вдохновителей защиты Севастополя. Не только руководил строительством укреплений, но и решал чисто военные задачи в критических ситуациях. Так. предвидя атаку противника на Малахов курган, распорядился устроить, четыре новых земляных бруствера (насыпи), а за ними расположил артилле­рию, которая  отбила штурм неприятеля кар картечным огн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женерные сооружения: окопы, глубоко эшелонированная линия обороны, подземно-минная война, плавучий мост через бухту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2581200" cy="451332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4392720" cy="31212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50560" y="4076640"/>
            <a:ext cx="50403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ной город защищ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дети. За храбрость десятилетний защитник пятого бастиона Коля Пищенко был награжден боевым орден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508720" y="2997360"/>
            <a:ext cx="3019320" cy="3311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076720" y="765000"/>
            <a:ext cx="385128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щины строили блиндажи, рыли окопы и траншеи, устраивали укрытия для п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3573000"/>
            <a:ext cx="4968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лавился своим мужеством Петр Макарович Кошка, который участвовал в восемнадцати вылазках в расположение вражеских войск, захватил десять «языков» и был награжден Георгиевским крес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3640" y="0"/>
            <a:ext cx="5940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ая сестра милосердия Дарья была награждена золотой медалью с надписью «За усердие» на Владимирской ленте и 500 руб. серебром. При этом объявили, что после вступления в брак, Дарье будет пожаловано еще 1000 руб. Раненые ласково называли ее Дашей Севастопольской, и в историю Крымской войны она вошла под этим имен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2628720" cy="3705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24360" y="2421000"/>
            <a:ext cx="2768760" cy="422604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ник Петру Макаровичу Кошке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именем названа улица у поднож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ахова кург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50920" y="1225440"/>
            <a:ext cx="8351640" cy="563256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684360" y="1052640"/>
            <a:ext cx="4086000" cy="5445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076360" y="1599840"/>
            <a:ext cx="381636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юст Героини возле панорам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Оборона Севастополя»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250560" y="-360"/>
            <a:ext cx="84358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f1b0d"/>
                </a:solidFill>
                <a:latin typeface="Arial"/>
              </a:rPr>
              <a:t>Даша Севастопольская</a:t>
            </a:r>
            <a:r>
              <a:rPr b="0" lang="en-US" sz="4400" spc="-1" strike="noStrike">
                <a:solidFill>
                  <a:srgbClr val="9f1b0d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900"/>
                            </p:stCondLst>
                            <p:childTnLst>
                              <p:par>
                                <p:cTn id="6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42920" y="1628280"/>
            <a:ext cx="4249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новоположник хирургии как научной медицинской дисциплины. Он одним из первых использовал эфирный наркоз в клинике. А в 1847 г. впервые в мире применил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нарко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в военно-полевой хирургии. В Севастополе им было произведено около 400 операций под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эфирны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300 под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хлороформны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наркозом. Ему принадлежит инициатива развертывания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ременных госпиталей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для защитников Севастоп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3674880" cy="5112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0328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Николай Иванович  Пирог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-521280"/>
            <a:ext cx="8137800" cy="76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Парижский мирный договор 18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говор, завершивший Крымскую войну 1853—56 .Подписан в Париже 18(30) марта на заключительном заседании конгресса держав представителями России, Франции, Великобритании, Турции, Австрии, Пруссии,  Сард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ссия отдает Турции Карс в обмен на Крым и Севастоп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Черное море – нейтральное (открытое для судов всех стр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ссия и Турция не могут иметь военного флота и укреплений на Черном море (нет защиты южных рубежей Росс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ссия теряет права защитницы балканск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0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Парижская конференция 1856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474192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187280" y="333360"/>
            <a:ext cx="604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одержани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413000"/>
            <a:ext cx="554508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Comic Sans MS"/>
                <a:hlinkClick r:id="rId4" action="ppaction://hlinksldjump"/>
              </a:rPr>
              <a:t>Причины и п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Comic Sans MS"/>
                <a:hlinkClick r:id="rId5" action="ppaction://hlinksldjump"/>
              </a:rPr>
              <a:t>Страны 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Comic Sans MS"/>
                <a:hlinkClick r:id="rId6" action="ppaction://hlinksldjump"/>
              </a:rPr>
              <a:t>Соотношение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Comic Sans MS"/>
                <a:hlinkClick r:id="rId7" action="ppaction://hlinksldjump"/>
              </a:rPr>
              <a:t>Ход военных действий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Comic Sans MS"/>
                <a:hlinkClick r:id="rId8" action="ppaction://hlinksldjump"/>
              </a:rPr>
              <a:t>Мирный до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.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Comic Sans MS"/>
                <a:hlinkClick r:id="rId9" action="ppaction://hlinksldjump"/>
              </a:rPr>
              <a:t>Ит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.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Comic Sans MS"/>
                <a:hlinkClick r:id="rId10" action="ppaction://hlinksldjump"/>
              </a:rPr>
              <a:t>Об ав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645000"/>
            <a:ext cx="4248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новные с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олководцы, лица, учас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4716360" y="1125360"/>
            <a:ext cx="3975120" cy="532800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Comic Sans MS"/>
              </a:rPr>
              <a:t>Итоги вой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ное море объявлялось нейтральным. России запрещалось иметь на море флот и береговые укре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Южная часть Бессарабии отошли к противн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жение в войне укрепило в обществе необходимость о обновления в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5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21364200">
            <a:off x="973080" y="679320"/>
            <a:ext cx="56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545454"/>
                </a:solidFill>
                <a:latin typeface="Comic Sans MS"/>
              </a:rPr>
              <a:t>Об авторе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solidFill>
                <a:srgbClr val="545454"/>
              </a:solidFill>
              <a:latin typeface="Comic Sans MS"/>
              <a:ea typeface="Comic Sans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95640" y="2492280"/>
            <a:ext cx="460872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Презентация подготови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ученица 10 класс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Мальцева Екатер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 rot="21264600">
            <a:off x="395280" y="1773000"/>
            <a:ext cx="3575160" cy="4751280"/>
          </a:xfrm>
          <a:prstGeom prst="rect">
            <a:avLst/>
          </a:prstGeom>
          <a:ln w="28440">
            <a:solidFill>
              <a:srgbClr val="cc0000"/>
            </a:solidFill>
            <a:miter/>
          </a:ln>
        </p:spPr>
      </p:pic>
    </p:spTree>
  </p:cSld>
  <p:transition advTm="20000">
    <p:cover dir="r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21421800">
            <a:off x="108000" y="5157360"/>
            <a:ext cx="1476360" cy="984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 flipH="1" rot="1459200">
            <a:off x="1763280" y="4292640"/>
            <a:ext cx="1440000" cy="9608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 rot="21031800">
            <a:off x="1692000" y="5373720"/>
            <a:ext cx="1276200" cy="957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 rot="21333600">
            <a:off x="324000" y="4292640"/>
            <a:ext cx="1295280" cy="777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Причины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4221000"/>
            <a:ext cx="251928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Тур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нгл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Австр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Фран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1413000"/>
            <a:ext cx="7272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сточный вопрос привёл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острению политических и экономических противоречий на Ближнем Востоке и на Балканах между</a:t>
            </a: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43280" y="3213000"/>
            <a:ext cx="50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3357720"/>
            <a:ext cx="43200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479736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435640" y="4186080"/>
            <a:ext cx="2376360" cy="1791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580000" y="4653000"/>
            <a:ext cx="2386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сс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7"/>
          <a:stretch/>
        </p:blipFill>
        <p:spPr>
          <a:xfrm>
            <a:off x="5435640" y="4221000"/>
            <a:ext cx="2376360" cy="1791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508720" y="4653000"/>
            <a:ext cx="23860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Росс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4891680"/>
            <a:ext cx="7777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Повод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пор между католическим и православным духовен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Палестине о то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то будет блюстителем храма Гроба Госпо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 rot="21360000">
            <a:off x="334800" y="528120"/>
            <a:ext cx="4608720" cy="2891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 rot="310800">
            <a:off x="5435280" y="2707920"/>
            <a:ext cx="3313080" cy="2260440"/>
          </a:xfrm>
          <a:prstGeom prst="rect">
            <a:avLst/>
          </a:prstGeom>
          <a:ln w="0">
            <a:noFill/>
          </a:ln>
        </p:spPr>
      </p:pic>
    </p:spTree>
  </p:cSld>
  <p:transition advTm="20000"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55640" y="1628640"/>
          <a:ext cx="7772400" cy="486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- участницы вой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и, стран-участниц вой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осс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остранение влияния на Ближнем Востоке (в том числе и присоединение территорий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Тур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ла ослабить Россию, захватить Крым и Закавказь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ран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тела ослабления России, распространения экономического и политического влияния  на Ближнем Восто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Англ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тела ослабления России, распространения экономического и политического влияния  на Ближнем Восто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 txBox="1"/>
          <p:nvPr/>
        </p:nvSpPr>
        <p:spPr>
          <a:xfrm>
            <a:off x="971640" y="189000"/>
            <a:ext cx="7057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Страны учасни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cc0000"/>
                    </a:gs>
                  </a:gsLst>
                  <a:path path="rect">
                    <a:fillToRect l="50000" t="50000" r="50000" b="50000"/>
                  </a:path>
                </a:gradFill>
                <a:latin typeface="Comic Sans MS"/>
              </a:rPr>
              <a:t>и их це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cc0000"/>
                  </a:gs>
                </a:gsLst>
                <a:path path="rect">
                  <a:fillToRect l="50000" t="50000" r="50000" b="50000"/>
                </a:path>
              </a:gradFill>
              <a:latin typeface="Comic Sans MS"/>
              <a:ea typeface="Comic Sans MS"/>
            </a:endParaRPr>
          </a:p>
        </p:txBody>
      </p:sp>
    </p:spTree>
  </p:cSld>
  <p:transition advTm="20000">
    <p:cover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Соотношение сил и военно-техническая готовность к вой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11280" y="1341360"/>
          <a:ext cx="7772400" cy="4837320"/>
        </p:xfrm>
        <a:graphic>
          <a:graphicData uri="http://schemas.openxmlformats.org/drawingml/2006/table">
            <a:tbl>
              <a:tblPr/>
              <a:tblGrid>
                <a:gridCol w="3240000"/>
                <a:gridCol w="4532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оссия и союз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сманская империя и   союзн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700 тыс.солд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лгарская бригада — 2000 солда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анская империя — 165 тыс. солд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кобритания — 250 864 солд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рдиния — 21 тыс. солд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ская бригада — 4250 солд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царская бригада — 2200 солд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усный флот (24 суд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овой флот (258 суд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дкоствольные кремневые (300 шаг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езные удар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300 шаг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кнутый ст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ыпной стр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20000">
    <p:cover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889308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0 октября 1853 г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 Николай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одписал Манифест о начале войны с Тур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84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48478"/>
                </a:solidFill>
                <a:latin typeface="Times New Roman"/>
              </a:rPr>
              <a:t>Первый этап вой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ноябрь 1853 - апрель 185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усско-турецкие военны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847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48478"/>
                </a:solidFill>
                <a:latin typeface="Times New Roman"/>
              </a:rPr>
              <a:t>Второй этап войны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апрель 1854 - февраль 1856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гло-французская интервенция в Крым, появление военных кораблей Западных держав на Балтийском и Белом морях и на Камча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00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Начало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4920" y="693720"/>
            <a:ext cx="9109080" cy="568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79280" y="1341360"/>
            <a:ext cx="2664000" cy="3167280"/>
          </a:xfrm>
          <a:prstGeom prst="ellipse">
            <a:avLst/>
          </a:prstGeom>
          <a:noFill/>
          <a:ln w="57240">
            <a:solidFill>
              <a:srgbClr val="fbd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5640" y="2998800"/>
            <a:ext cx="2160360" cy="2158920"/>
          </a:xfrm>
          <a:prstGeom prst="ellipse">
            <a:avLst/>
          </a:prstGeom>
          <a:noFill/>
          <a:ln w="57240">
            <a:solidFill>
              <a:srgbClr val="fbdf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28000" y="4221000"/>
            <a:ext cx="216000" cy="217800"/>
          </a:xfrm>
          <a:prstGeom prst="ellipse">
            <a:avLst/>
          </a:prstGeom>
          <a:solidFill>
            <a:srgbClr val="fbdf53"/>
          </a:soli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3:50:55Z</dcterms:created>
  <dc:creator>User</dc:creator>
  <dc:description/>
  <dc:language>en-US</dc:language>
  <cp:lastModifiedBy>Loner-XP</cp:lastModifiedBy>
  <dcterms:modified xsi:type="dcterms:W3CDTF">2011-01-25T15:31:12Z</dcterms:modified>
  <cp:revision>19</cp:revision>
  <dc:subject/>
  <dc:title>Слайд 1</dc:title>
</cp:coreProperties>
</file>